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4F7-6D78-43A2-BEFF-CD475F3C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80A-F664-4ADD-919C-AA2C8580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937-07B1-49D8-A5AF-708672C8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3A1-D945-4906-ABD6-E832F8C2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3BE-88BC-4FE1-815A-F58F5306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77B-A71D-4E85-85F8-C47A096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8F9F-4F0D-4C50-ACCE-59863CDC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F23F-173C-48BA-B62B-BA2FA21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C12-F31E-4BEE-9E6D-2E316BC6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56AE-047D-4AD1-A1F4-4587257D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E27-CBB5-4CC0-A65F-B3603E7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D95-B3E0-4A39-BD10-F2552210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3C6-B681-4C3C-9910-5DD1BEF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96F-C137-48E4-B6C0-5D1A9BDF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6770-F280-4C6C-9684-EE6F59F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57E-3DB2-4134-A5B9-DC482815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FD9-B6B6-477C-8806-A91809C1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01B-379A-40F4-B8A3-328A2AD0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F10-A20B-49E0-BF46-7F567F0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836-E44E-457C-A695-EB914F3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E14-FDCA-4235-9D3E-90F9FFB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A59-7A32-445F-9378-56BC08B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710-030E-4E57-9F59-F6D401A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390-9AFB-4D39-BD8B-C5898B4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F36B-EAB9-4B2E-A6F0-13DBD3C92E66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C8B-D0AF-4313-86D0-27FA7CC374A8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E:/documentazione/SICILIA/BuonePRATICHE.ppt#Slide 1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mailto:si.vergaio@scuole.prato.it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omic Sans MS"/>
              </a:rPr>
              <a:t>Documentare a scuola - documentare la scuol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A cura di Gloria Bernardi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Irre Tosc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443640" y="404640"/>
          <a:ext cx="230976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04640"/>
                    <a:ext cx="230976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D3D-7915-4899-9EA1-2AACDC7620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he cosa documenta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1700280"/>
            <a:ext cx="3673440" cy="36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2011e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one stru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2011e1"/>
                </a:solidFill>
                <a:latin typeface="Comic Sans MS"/>
                <a:ea typeface="Times New Roman"/>
              </a:rPr>
              <a:t>docu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11e1"/>
                </a:solidFill>
                <a:latin typeface="Comic Sans MS"/>
                <a:ea typeface="Times New Roman"/>
              </a:rPr>
              <a:t>di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z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ani di lavor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1628640"/>
            <a:ext cx="3744720" cy="3888000"/>
          </a:xfrm>
          <a:custGeom>
            <a:avLst/>
            <a:gdLst>
              <a:gd name="textAreaLeft" fmla="*/ 182520 w 3744720"/>
              <a:gd name="textAreaRight" fmla="*/ 3562200 w 3744720"/>
              <a:gd name="textAreaTop" fmla="*/ 182520 h 3888000"/>
              <a:gd name="textAreaBottom" fmla="*/ 3705480 h 3888000"/>
            </a:gdLst>
            <a:ahLst/>
            <a:rect l="textAreaLeft" t="textAreaTop" r="textAreaRight" b="textAreaBottom"/>
            <a:pathLst>
              <a:path w="21600" h="22426">
                <a:moveTo>
                  <a:pt x="3600" y="0"/>
                </a:moveTo>
                <a:arcTo wR="3600" hR="3600" stAng="16200000" swAng="-5400000"/>
                <a:lnTo>
                  <a:pt x="0" y="18826"/>
                </a:lnTo>
                <a:arcTo wR="3600" hR="3600" stAng="10800000" swAng="-5400000"/>
                <a:lnTo>
                  <a:pt x="18000" y="2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a661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one educ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a6619"/>
                </a:solidFill>
                <a:latin typeface="Comic Sans MS"/>
                <a:ea typeface="Times New Roman"/>
              </a:rPr>
              <a:t>docu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619"/>
                </a:solidFill>
                <a:latin typeface="Comic Sans MS"/>
                <a:ea typeface="Times New Roman"/>
              </a:rPr>
              <a:t>di percorso</a:t>
            </a:r>
            <a:br>
              <a:rPr sz="20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perienze didat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a6619"/>
                </a:solidFill>
                <a:latin typeface="Comic Sans MS"/>
                <a:ea typeface="Times New Roman"/>
              </a:rPr>
              <a:t>docu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6619"/>
                </a:solidFill>
                <a:latin typeface="Comic Sans MS"/>
                <a:ea typeface="Times New Roman"/>
              </a:rPr>
              <a:t>di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 rom, ipertesti, elaborati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35280" y="62164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011e1"/>
                </a:solidFill>
                <a:latin typeface="Comic Sans MS"/>
              </a:rPr>
              <a:t>POF/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6165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ATTIVITA’/PROG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5516640"/>
            <a:ext cx="142920" cy="576360"/>
          </a:xfrm>
          <a:prstGeom prst="line">
            <a:avLst/>
          </a:prstGeom>
          <a:ln w="9360">
            <a:solidFill>
              <a:srgbClr val="2011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5589720"/>
            <a:ext cx="433080" cy="576000"/>
          </a:xfrm>
          <a:prstGeom prst="line">
            <a:avLst/>
          </a:prstGeom>
          <a:ln w="9360">
            <a:solidFill>
              <a:srgbClr val="0a66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FB3-515D-4311-8263-A77475FAF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Documentazione di sistem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84280"/>
            <a:ext cx="8210520" cy="446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2011e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2011e1"/>
                </a:solidFill>
                <a:uFillTx/>
                <a:latin typeface="Comic Sans MS"/>
              </a:rPr>
              <a:t>Documentazione di sistema/di istit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scrive la scuola come </a:t>
            </a:r>
            <a:r>
              <a:rPr b="0" lang="it-IT" sz="1800" spc="-1" strike="noStrike">
                <a:solidFill>
                  <a:srgbClr val="2011e1"/>
                </a:solidFill>
                <a:latin typeface="Comic Sans MS"/>
              </a:rPr>
              <a:t>organizz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e esplicita la struttura e le articolazion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ccoglie in modo strutturato la </a:t>
            </a:r>
            <a:r>
              <a:rPr b="0" lang="it-IT" sz="1800" spc="-1" strike="noStrike">
                <a:solidFill>
                  <a:srgbClr val="2011e1"/>
                </a:solidFill>
                <a:latin typeface="Comic Sans MS"/>
              </a:rPr>
              <a:t>memor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torica dell'istituzione scolas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getti che appartengono a questo piano possono essere il POF e le sue componenti, le attività delle figure intermedie (funzioni strumentali etc.), la progettazione integrata con il territorio, i piani di lavoro, attività di formazione etc.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a dimensione è quella in cui si acquisiscono, si trattano, si elaborano le informazioni utili a monitorare </a:t>
            </a:r>
            <a:r>
              <a:rPr b="0" lang="it-IT" sz="1800" spc="-1" strike="noStrike">
                <a:solidFill>
                  <a:srgbClr val="2011e1"/>
                </a:solidFill>
                <a:latin typeface="Comic Sans MS"/>
              </a:rPr>
              <a:t>i processi e il funzionamento dell’istit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40F-A4F9-4D56-8453-B77DCC00D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Documentazione di sistem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1700280"/>
            <a:ext cx="2160720" cy="1512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011e1"/>
            </a:solidFill>
            <a:miter/>
          </a:ln>
          <a:effectLst>
            <a:outerShdw dist="107932" dir="18900000" blurRad="0" rotWithShape="0">
              <a:srgbClr val="2011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 delle iniz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68360" y="1628640"/>
            <a:ext cx="2374920" cy="1729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011e1"/>
            </a:solidFill>
            <a:miter/>
          </a:ln>
          <a:effectLst>
            <a:outerShdw dist="107932" dir="13500000" blurRad="0" rotWithShape="0">
              <a:srgbClr val="2011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i relativi al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zionamento del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8000" y="3429000"/>
            <a:ext cx="2376720" cy="1873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011e1"/>
            </a:solidFill>
            <a:miter/>
          </a:ln>
          <a:effectLst>
            <a:outerShdw dist="107932" dir="8100000" blurRad="0" rotWithShape="0">
              <a:srgbClr val="2011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i relativi al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zionamento della didat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2708280"/>
            <a:ext cx="2305080" cy="1584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011e1"/>
            </a:solidFill>
            <a:miter/>
          </a:ln>
          <a:effectLst>
            <a:outerShdw dist="117181" dir="2438368" blurRad="0" rotWithShape="0">
              <a:srgbClr val="2011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azione e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2781360"/>
            <a:ext cx="1584000" cy="1008000"/>
          </a:xfrm>
          <a:prstGeom prst="ellipse">
            <a:avLst/>
          </a:prstGeom>
          <a:solidFill>
            <a:srgbClr val="201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en-US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P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2055600"/>
            <a:ext cx="180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3716280"/>
            <a:ext cx="2376360" cy="1584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011e1"/>
            </a:solidFill>
            <a:miter/>
          </a:ln>
          <a:effectLst>
            <a:outerShdw dist="107932" dir="2700000" blurRad="0" rotWithShape="0">
              <a:srgbClr val="2011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valu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la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955-E1DE-489D-8E2D-1BD042467A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ocumentazione di percorso/prodotto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484280"/>
            <a:ext cx="7921440" cy="424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a661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d8922"/>
                </a:solidFill>
                <a:uFillTx/>
                <a:latin typeface="Comic Sans MS"/>
              </a:rPr>
              <a:t>Documentazione di perco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scrive i singoli </a:t>
            </a:r>
            <a:r>
              <a:rPr b="1" lang="it-IT" sz="1800" spc="-1" strike="noStrike">
                <a:solidFill>
                  <a:srgbClr val="0d8922"/>
                </a:solidFill>
                <a:latin typeface="Comic Sans MS"/>
              </a:rPr>
              <a:t>processi didattici ed educativ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getti che appartengono a questo piano possono essere i singoli progetti, le esperi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d8922"/>
                </a:solidFill>
                <a:uFillTx/>
                <a:latin typeface="Comic Sans MS"/>
              </a:rPr>
              <a:t>Documentazione di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scrive il risultato "visibile" di progetti ed esperienze didattiche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getti di questo piano sono i prodotti dell'attività in classe, il risultato di ricerche: elaborati, cd-rom, ipertesti, manufatti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F1F-F092-401C-8A56-6CBC56C37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ATTENZIONE A 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968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a6619"/>
                </a:solidFill>
                <a:latin typeface="Comic Sans MS"/>
              </a:rPr>
              <a:t>Documentazione 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a6619"/>
                </a:solidFill>
                <a:latin typeface="Comic Sans MS"/>
              </a:rPr>
              <a:t>            di </a:t>
            </a:r>
            <a:br>
              <a:rPr sz="3200"/>
            </a:br>
            <a:r>
              <a:rPr b="0" lang="it-IT" sz="3200" spc="-1" strike="noStrike">
                <a:solidFill>
                  <a:srgbClr val="0a6619"/>
                </a:solidFill>
                <a:latin typeface="Comic Sans MS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a661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         </a:t>
            </a: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itinera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9560" y="1828800"/>
            <a:ext cx="3801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Comic Sans MS"/>
              </a:rPr>
              <a:t>Documentazione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660066"/>
                </a:solidFill>
                <a:latin typeface="Comic Sans MS"/>
              </a:rPr>
              <a:t>          di </a:t>
            </a:r>
            <a:br>
              <a:rPr sz="3200"/>
            </a:br>
            <a:r>
              <a:rPr b="0" lang="it-IT" sz="3200" spc="-1" strike="noStrike">
                <a:solidFill>
                  <a:srgbClr val="660066"/>
                </a:solidFill>
                <a:latin typeface="Comic Sans MS"/>
              </a:rPr>
              <a:t>prodotto</a:t>
            </a: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660066"/>
                </a:solidFill>
                <a:latin typeface="Comic Sans MS"/>
              </a:rPr>
              <a:t> risultato visibi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3500280"/>
            <a:ext cx="505080" cy="1584360"/>
          </a:xfrm>
          <a:custGeom>
            <a:avLst/>
            <a:gdLst>
              <a:gd name="textAreaLeft" fmla="*/ 67680 w 505080"/>
              <a:gd name="textAreaRight" fmla="*/ 437400 w 505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85080" y="3429000"/>
            <a:ext cx="792360" cy="1584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400"/>
                <a:lnTo>
                  <a:pt x="7186" y="21169"/>
                </a:lnTo>
                <a:lnTo>
                  <a:pt x="0" y="17280"/>
                </a:lnTo>
                <a:lnTo>
                  <a:pt x="7186" y="12529"/>
                </a:lnTo>
                <a:lnTo>
                  <a:pt x="7186" y="14689"/>
                </a:lnTo>
                <a:arcTo wR="21600" hR="7560" stAng="2686400" swAng="-232896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63640" y="5661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556000" y="5661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419640" y="57340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796000" y="5013360"/>
            <a:ext cx="95256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26920" y="3141720"/>
            <a:ext cx="2232360" cy="10792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284640"/>
            <a:ext cx="2232000" cy="792000"/>
          </a:xfrm>
          <a:prstGeom prst="ellipse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69-47F2-4A46-B05B-71E5D6A5C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Modalità di Diffus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50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00000" y="2707920"/>
            <a:ext cx="365400" cy="36684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6920" y="3933720"/>
            <a:ext cx="457200" cy="27468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2556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82556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403280" y="1484280"/>
          <a:ext cx="6985080" cy="4987800"/>
        </p:xfrm>
        <a:graphic>
          <a:graphicData uri="http://schemas.openxmlformats.org/drawingml/2006/table">
            <a:tbl>
              <a:tblPr/>
              <a:tblGrid>
                <a:gridCol w="1163880"/>
                <a:gridCol w="58212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documentazione è orientata essenzialmente 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i docenti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materiali sono consultabili in rete locale o attraverso il collegamento con il sito della scuola tramite 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ssword</a:t>
                      </a:r>
                      <a:br>
                        <a:rPr sz="1600"/>
                      </a:br>
                      <a:br>
                        <a:rPr sz="11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30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documentazione è orientata 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lle famiglie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ampa e distribuzione di dossier cartacei 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minor impatto tecnologico, maggiore costo)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ubblicazione di dossier attraverso internet 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maggiore impatto tecnologico ma minore costo)</a:t>
                      </a:r>
                      <a:br>
                        <a:rPr sz="1400"/>
                      </a:b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documentazione è orientata al 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stema scuola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tilizza standard naziona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979640" y="3860640"/>
            <a:ext cx="50472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5805360"/>
            <a:ext cx="5050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697-2D00-4CCE-A57C-CD0EE7597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 form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1268280"/>
            <a:ext cx="2232000" cy="180036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TO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3429000"/>
            <a:ext cx="216072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rganizzazi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4292640"/>
            <a:ext cx="216036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oli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0000" y="5013360"/>
            <a:ext cx="216036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sorse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24360" y="5445000"/>
            <a:ext cx="216072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ecnologi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3141720"/>
            <a:ext cx="1728720" cy="647640"/>
          </a:xfrm>
          <a:prstGeom prst="leftArrow">
            <a:avLst>
              <a:gd name="adj1" fmla="val 50000"/>
              <a:gd name="adj2" fmla="val 667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268280"/>
            <a:ext cx="223200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PLIANT?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d?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il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2924280"/>
            <a:ext cx="2160360" cy="93636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e struttura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F00-C052-4108-8E51-07D1F9A587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870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La documentazione nel sistema educativo:  “</a:t>
            </a: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il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989000"/>
            <a:ext cx="7199280" cy="2160720"/>
          </a:xfrm>
          <a:prstGeom prst="cloudCallout">
            <a:avLst>
              <a:gd name="adj1" fmla="val -52250"/>
              <a:gd name="adj2" fmla="val 148601"/>
            </a:avLst>
          </a:prstGeom>
          <a:gradFill rotWithShape="0">
            <a:gsLst>
              <a:gs pos="0">
                <a:srgbClr val="fef8c8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buone pratiche educative rispondono ai bisogni emergenti, ma raramente divengono generative di nuove conoscenze e nuove metodologie didattiche.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4508640"/>
            <a:ext cx="3024000" cy="1655640"/>
          </a:xfrm>
          <a:prstGeom prst="wedgeRoundRectCallout">
            <a:avLst>
              <a:gd name="adj1" fmla="val 75092"/>
              <a:gd name="adj2" fmla="val 83842"/>
              <a:gd name="adj3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add5a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ché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BFB-1B02-4680-8177-501733D77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La documentazione nel sistema educativo: </a:t>
            </a: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guardiamoci intor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2492280"/>
            <a:ext cx="3241800" cy="1150920"/>
          </a:xfrm>
          <a:prstGeom prst="wedgeEllipseCallout">
            <a:avLst>
              <a:gd name="adj1" fmla="val 63759"/>
              <a:gd name="adj2" fmla="val 96208"/>
            </a:avLst>
          </a:prstGeom>
          <a:gradFill rotWithShape="0">
            <a:gsLst>
              <a:gs pos="0">
                <a:srgbClr val="fef0cd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on c’è tempo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458136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24000" y="1557360"/>
            <a:ext cx="3959280" cy="1368360"/>
          </a:xfrm>
          <a:prstGeom prst="wedgeEllipseCallout">
            <a:avLst>
              <a:gd name="adj1" fmla="val -88814"/>
              <a:gd name="adj2" fmla="val 63342"/>
            </a:avLst>
          </a:prstGeom>
          <a:gradFill rotWithShape="0">
            <a:gsLst>
              <a:gs pos="0">
                <a:srgbClr val="feebbd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Quel che c’è …. non si trova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997360"/>
            <a:ext cx="4175280" cy="1584000"/>
          </a:xfrm>
          <a:prstGeom prst="wedgeEllipseCallout">
            <a:avLst>
              <a:gd name="adj1" fmla="val -79884"/>
              <a:gd name="adj2" fmla="val 52402"/>
            </a:avLst>
          </a:prstGeom>
          <a:gradFill rotWithShape="0">
            <a:gsLst>
              <a:gs pos="0">
                <a:srgbClr val="ffb800"/>
              </a:gs>
              <a:gs pos="100000">
                <a:srgbClr val="fef0c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Quel che si trova…… non serv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14560" y="5300640"/>
            <a:ext cx="72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risultati ottenuti sono spesso insoddisfacenti sul piano della qualità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esaustività, significatività, coerenza, pertinenz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48360" y="4508640"/>
            <a:ext cx="4316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C4D-D454-4464-A27F-4A3CACAF78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documentazione nel sistema educativo: 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675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blemi strutturali che dipendono dal sistema scuola (difficoltà nell’affermarsi di standard)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blemi che dipendono dall’assenza di una cultura documentaria nelle singole scuol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fusione tra documentazione/PUBBLICIZZAZION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 documentazione/PROBLEMATIZZAZIONE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CBC-2189-4280-B69F-93A30924C4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92360" y="1700280"/>
            <a:ext cx="6840360" cy="37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documentazione nel sistema educativo: 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un nodo da sciogli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2708280"/>
            <a:ext cx="568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strumento utile 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o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Museo”  della scuola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43A-F153-465D-892A-F1844D7697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ocumentare esperienze signif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6513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Far comprendere ciò che si è fa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3141720"/>
            <a:ext cx="7199280" cy="3240000"/>
          </a:xfrm>
          <a:prstGeom prst="wedgeRoundRectCallout">
            <a:avLst>
              <a:gd name="adj1" fmla="val -54564"/>
              <a:gd name="adj2" fmla="val 53967"/>
              <a:gd name="adj3" fmla="val 16667"/>
            </a:avLst>
          </a:prstGeom>
          <a:gradFill rotWithShape="0">
            <a:gsLst>
              <a:gs pos="0">
                <a:srgbClr val="fee7ad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a6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a6619"/>
                </a:solidFill>
                <a:latin typeface="Times New Roman"/>
              </a:rPr>
              <a:t>Trasformare in "unità informativa" gli aspetti più interessanti di un'attività, di un proget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a6619"/>
                </a:solidFill>
                <a:latin typeface="Times New Roman"/>
              </a:rPr>
              <a:t>Rendere visibile all’esterno le capacità progettuali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C6E-2FB7-4C1E-9DEF-8CCB47A7B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ocumentare esperienze signif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6513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Comprendere ciò che si è fa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2852640"/>
            <a:ext cx="7704360" cy="2448000"/>
          </a:xfrm>
          <a:prstGeom prst="wedgeRoundRectCallout">
            <a:avLst>
              <a:gd name="adj1" fmla="val -46787"/>
              <a:gd name="adj2" fmla="val 99416"/>
              <a:gd name="adj3" fmla="val 16667"/>
            </a:avLst>
          </a:prstGeom>
          <a:gradFill rotWithShape="0">
            <a:gsLst>
              <a:gs pos="0">
                <a:srgbClr val="feeab6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a6619"/>
                </a:solidFill>
                <a:latin typeface="Times New Roman"/>
              </a:rPr>
              <a:t>elaborare "un vissu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a6619"/>
                </a:solidFill>
                <a:latin typeface="Times New Roman"/>
              </a:rPr>
              <a:t>sviluppare riflessioni sulle esperienze realizzate</a:t>
            </a:r>
            <a:br>
              <a:rPr sz="2800"/>
            </a:br>
            <a:r>
              <a:rPr b="1" lang="it-IT" sz="2800" spc="-1" strike="noStrike">
                <a:solidFill>
                  <a:srgbClr val="0a6619"/>
                </a:solidFill>
                <a:latin typeface="Times New Roman"/>
              </a:rPr>
              <a:t>problematizzare esperi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CD8-2E2B-496A-AB51-B9E012A6BE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281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NARRARE ESPERIENZE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2349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SEMPRE UNA STORIA A “LIETO FI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4941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UNA STORIA A “FINALE APERT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284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PROBLEMATIZZARE ESPERIENZ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0360" y="119700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1268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4437000"/>
            <a:ext cx="2089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viluppo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716280"/>
            <a:ext cx="1296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76720" y="404640"/>
            <a:ext cx="2089080" cy="1152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r conosc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r comprend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35640" y="1341360"/>
            <a:ext cx="2089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’ Es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59640" y="3573360"/>
            <a:ext cx="2089080" cy="1152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prender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miglio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4221000"/>
            <a:ext cx="2089080" cy="1152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i colleg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607-3F9F-43E9-B392-A43D5D57E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826920" y="13413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par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2349360"/>
            <a:ext cx="1368360" cy="71928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23493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342900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213000"/>
            <a:ext cx="1513080" cy="107964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cr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4653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566100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92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537372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6381720"/>
            <a:ext cx="2890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0072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5589720"/>
            <a:ext cx="1439640" cy="71892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764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32720" y="5589720"/>
            <a:ext cx="1152360" cy="71892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3213000"/>
            <a:ext cx="1512720" cy="107964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3213000"/>
            <a:ext cx="1512720" cy="107964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076720" y="39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916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0360" y="1557360"/>
            <a:ext cx="2089080" cy="1440000"/>
          </a:xfrm>
          <a:prstGeom prst="hexagon">
            <a:avLst>
              <a:gd name="adj" fmla="val 3626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281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gramma dell’esperienza per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NARRAZIONE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5921280"/>
            <a:ext cx="1152360" cy="936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68360" y="4653000"/>
            <a:ext cx="115272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r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43280" y="2708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364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vi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vi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88000" y="5013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vi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64000" y="4221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tro prog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5229360"/>
            <a:ext cx="1152360" cy="936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A80-7AEF-4AFA-B740-AE6F7DD0EC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11280" y="54936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1773360"/>
            <a:ext cx="1368360" cy="71892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1700280"/>
            <a:ext cx="2016360" cy="7189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2924280"/>
            <a:ext cx="2016360" cy="7189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63640" y="2637000"/>
            <a:ext cx="1513080" cy="107928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cr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5640" y="530064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arr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4221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8764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45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22100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0836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221000"/>
            <a:ext cx="1152360" cy="71928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637000"/>
            <a:ext cx="1512720" cy="107928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1052640"/>
            <a:ext cx="2089440" cy="1439640"/>
          </a:xfrm>
          <a:prstGeom prst="hexagon">
            <a:avLst>
              <a:gd name="adj" fmla="val 36284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35280" y="2852640"/>
            <a:ext cx="1152720" cy="936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549360"/>
            <a:ext cx="115272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r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27280" y="20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3357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8764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8000" y="2421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80000" y="5661000"/>
            <a:ext cx="1152360" cy="936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56000" y="5157720"/>
            <a:ext cx="115272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r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76720" y="6165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43640" y="5589720"/>
            <a:ext cx="1441440" cy="1008000"/>
          </a:xfrm>
          <a:prstGeom prst="ellipse">
            <a:avLst/>
          </a:prstGeom>
          <a:solidFill>
            <a:srgbClr val="fb6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uadagn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alizz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E87-8B99-4D2C-B738-6ACA0225C5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diagramma dell’esperienza per PROBLEMATIZZ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2987640" y="126828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126828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con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2205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ru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126828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tragu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4221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attrez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1640" y="5373720"/>
            <a:ext cx="20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fe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risultat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guadag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3213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scel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35280" y="249228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“rimed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95640" y="3573360"/>
            <a:ext cx="1152720" cy="129708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56360" y="2349360"/>
            <a:ext cx="2303280" cy="2448000"/>
          </a:xfrm>
          <a:prstGeom prst="ellipse">
            <a:avLst/>
          </a:prstGeom>
          <a:gradFill rotWithShape="0">
            <a:gsLst>
              <a:gs pos="0">
                <a:srgbClr val="edfefe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ele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ssenz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484280"/>
            <a:ext cx="360360" cy="289080"/>
          </a:xfrm>
          <a:prstGeom prst="leftRightArrow">
            <a:avLst>
              <a:gd name="adj1" fmla="val 50000"/>
              <a:gd name="adj2" fmla="val 24816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3280" y="5373720"/>
            <a:ext cx="20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d0d8"/>
              </a:gs>
              <a:gs pos="100000">
                <a:srgbClr val="4b4e6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probl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insuc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1D6-4715-4066-AC69-5E1F49568D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PRBLEMATIZZARE</a:t>
            </a:r>
            <a:r>
              <a:rPr b="0" lang="it-IT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170028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184464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56360" y="1341360"/>
            <a:ext cx="12970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ram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58920" y="3429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strategi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67280" y="4941720"/>
            <a:ext cx="1152360" cy="1297080"/>
          </a:xfrm>
          <a:prstGeom prst="downArrow">
            <a:avLst>
              <a:gd name="adj1" fmla="val 50000"/>
              <a:gd name="adj2" fmla="val 2814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84360" y="1268280"/>
            <a:ext cx="12970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le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2924280"/>
            <a:ext cx="1224000" cy="792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l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40360" y="3429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strument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00360" y="2276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203640" y="2637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AB4-7A0F-4E6B-93D6-2BDAEE7F66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 risult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1341360"/>
            <a:ext cx="2808360" cy="93528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cosa è acca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2565360"/>
            <a:ext cx="280836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cosa avreste voluto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he fo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cca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3600000" y="1663560"/>
            <a:ext cx="792000" cy="1585800"/>
          </a:xfrm>
          <a:custGeom>
            <a:avLst/>
            <a:gdLst>
              <a:gd name="textAreaLeft" fmla="*/ 0 w 792000"/>
              <a:gd name="textAreaRight" fmla="*/ 792360 w 7920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35640" y="1125360"/>
            <a:ext cx="1584360" cy="1079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rile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88000" y="1916280"/>
            <a:ext cx="2087640" cy="1079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sc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626920" y="2781360"/>
            <a:ext cx="2305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3789360"/>
            <a:ext cx="2880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NO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sa si è rivelato punto di for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nto “casua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nto “particola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nto “trasferibi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365720"/>
            <a:ext cx="11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h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3933720"/>
            <a:ext cx="12970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guadag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2276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3716280"/>
            <a:ext cx="935280" cy="2089080"/>
          </a:xfrm>
          <a:prstGeom prst="upArrow">
            <a:avLst>
              <a:gd name="adj1" fmla="val 50000"/>
              <a:gd name="adj2" fmla="val 5584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5877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35640" y="5734080"/>
            <a:ext cx="1584360" cy="936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BUO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74C-0628-4A1C-8FAA-09CEAEE91A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2 livelli documenta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5805360"/>
            <a:ext cx="1463760" cy="73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tes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1413000"/>
            <a:ext cx="223200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  <a:effectLst>
            <a:outerShdw dist="107932" dir="81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cumentazione di superfi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5157720"/>
            <a:ext cx="1463760" cy="73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uo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5229360"/>
            <a:ext cx="2468520" cy="1371600"/>
          </a:xfrm>
          <a:prstGeom prst="ellipse">
            <a:avLst/>
          </a:prstGeom>
          <a:gradFill rotWithShape="0">
            <a:gsLst>
              <a:gs pos="0">
                <a:srgbClr val="e0e9d0"/>
              </a:gs>
              <a:gs pos="100000">
                <a:srgbClr val="6b981a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ssier documentario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27640" y="5661000"/>
            <a:ext cx="14637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immagi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1400" y="25516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16360" y="1989000"/>
            <a:ext cx="2376720" cy="1008360"/>
          </a:xfrm>
          <a:prstGeom prst="ellipse">
            <a:avLst/>
          </a:prstGeom>
          <a:gradFill rotWithShape="0">
            <a:gsLst>
              <a:gs pos="0">
                <a:srgbClr val="dbdbfe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cheda sint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24360" y="2133720"/>
            <a:ext cx="79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2360" y="4941720"/>
            <a:ext cx="107964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920" y="2637000"/>
            <a:ext cx="9410760" cy="1608120"/>
          </a:xfrm>
          <a:custGeom>
            <a:avLst/>
            <a:gdLst/>
            <a:ahLst/>
            <a:rect l="l" t="t" r="r" b="b"/>
            <a:pathLst>
              <a:path w="5928" h="1013">
                <a:moveTo>
                  <a:pt x="0" y="0"/>
                </a:moveTo>
                <a:cubicBezTo>
                  <a:pt x="601" y="136"/>
                  <a:pt x="1202" y="272"/>
                  <a:pt x="1588" y="363"/>
                </a:cubicBezTo>
                <a:cubicBezTo>
                  <a:pt x="1974" y="454"/>
                  <a:pt x="2186" y="575"/>
                  <a:pt x="2314" y="545"/>
                </a:cubicBezTo>
                <a:cubicBezTo>
                  <a:pt x="2442" y="515"/>
                  <a:pt x="2072" y="122"/>
                  <a:pt x="2359" y="182"/>
                </a:cubicBezTo>
                <a:cubicBezTo>
                  <a:pt x="2646" y="242"/>
                  <a:pt x="3742" y="825"/>
                  <a:pt x="4037" y="908"/>
                </a:cubicBezTo>
                <a:cubicBezTo>
                  <a:pt x="4332" y="991"/>
                  <a:pt x="3848" y="666"/>
                  <a:pt x="4128" y="681"/>
                </a:cubicBezTo>
                <a:cubicBezTo>
                  <a:pt x="4408" y="696"/>
                  <a:pt x="5504" y="983"/>
                  <a:pt x="5716" y="998"/>
                </a:cubicBezTo>
                <a:cubicBezTo>
                  <a:pt x="5928" y="1013"/>
                  <a:pt x="5663" y="892"/>
                  <a:pt x="5398" y="771"/>
                </a:cubicBez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42920" y="3860640"/>
            <a:ext cx="244944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b981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cumentazion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approfo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DC2-1E52-49D7-8E61-22938542D3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uperficie -  Approfondimento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0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Comic Sans MS"/>
              </a:rPr>
              <a:t>Scheda standard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3366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Comic Sans MS"/>
              </a:rPr>
              <a:t>informazioni essenzi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1640" y="1341360"/>
            <a:ext cx="3801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Documentazione personalizzata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materiali per l’approfondimento dell’informazione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4859280" y="1989000"/>
            <a:ext cx="0" cy="1224000"/>
          </a:xfrm>
          <a:prstGeom prst="line">
            <a:avLst/>
          </a:prstGeom>
          <a:ln w="28440">
            <a:solidFill>
              <a:srgbClr val="0a6619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421000"/>
            <a:ext cx="3240360" cy="266364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1989000"/>
            <a:ext cx="0" cy="533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7640" y="3141720"/>
            <a:ext cx="3887640" cy="2520720"/>
          </a:xfrm>
          <a:prstGeom prst="ellipse">
            <a:avLst/>
          </a:prstGeom>
          <a:noFill/>
          <a:ln w="28440">
            <a:solidFill>
              <a:srgbClr val="0a6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458200" y="380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47640" y="1125360"/>
            <a:ext cx="64800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98100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b9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35280" y="4941720"/>
            <a:ext cx="2016000" cy="1008360"/>
          </a:xfrm>
          <a:prstGeom prst="ellipse">
            <a:avLst/>
          </a:prstGeom>
          <a:gradFill rotWithShape="0">
            <a:gsLst>
              <a:gs pos="0">
                <a:srgbClr val="dbdbfe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arola chiave: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res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5229360"/>
            <a:ext cx="2016360" cy="1008000"/>
          </a:xfrm>
          <a:prstGeom prst="ellipse">
            <a:avLst/>
          </a:prstGeom>
          <a:gradFill rotWithShape="0">
            <a:gsLst>
              <a:gs pos="0">
                <a:srgbClr val="f5f7f0"/>
              </a:gs>
              <a:gs pos="100000">
                <a:srgbClr val="6b981a"/>
              </a:gs>
            </a:gsLst>
            <a:lin ang="135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arola chiave: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ossi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E66-6EF0-41BC-AFEC-CE31378231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92360" y="1700280"/>
            <a:ext cx="6840360" cy="37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632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r sciogliere il nodo…… Capire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chi e a che cosa serve la document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2708280"/>
            <a:ext cx="568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A chi serve? = Per chi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A che cosa serve?? = Che cosa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B4C-7368-41B1-B984-39DA149E67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4360" y="1197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87640" y="1197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ti gene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242100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4360" y="429264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scrizion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nt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88000" y="1052640"/>
            <a:ext cx="1297080" cy="936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692360" y="314172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155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4149720"/>
            <a:ext cx="12970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35280" y="2276640"/>
            <a:ext cx="1297080" cy="93636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00360" y="27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00360" y="4653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0920" y="573408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ttp://www.comune.prato.it/servcom/infanzia/asil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0360" y="4149720"/>
            <a:ext cx="2519280" cy="1224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vidu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riabili descrit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64360" y="2133720"/>
            <a:ext cx="71640" cy="19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48360" y="46530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03640" y="1916280"/>
            <a:ext cx="1297080" cy="93636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32360" y="2781360"/>
            <a:ext cx="12970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ec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859280" y="256500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88000" y="292428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documentazione di superfic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367-2A9C-45F0-9516-468E30CAC3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documentazione di superficie 1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PRESENT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58920" y="2060640"/>
            <a:ext cx="1512720" cy="1224000"/>
          </a:xfrm>
          <a:prstGeom prst="ellipse">
            <a:avLst/>
          </a:prstGeom>
          <a:gradFill rotWithShape="0">
            <a:gsLst>
              <a:gs pos="0">
                <a:srgbClr val="fef7e8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I si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35280" y="2852640"/>
            <a:ext cx="1512720" cy="1224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VE si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84720" y="1844640"/>
            <a:ext cx="1513080" cy="1224000"/>
          </a:xfrm>
          <a:prstGeom prst="ellipse">
            <a:avLst/>
          </a:prstGeom>
          <a:gradFill rotWithShape="0">
            <a:gsLst>
              <a:gs pos="0">
                <a:srgbClr val="fee9b5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S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cci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4360" y="4581360"/>
            <a:ext cx="1513080" cy="1224000"/>
          </a:xfrm>
          <a:prstGeom prst="ellipse">
            <a:avLst/>
          </a:prstGeom>
          <a:gradFill rotWithShape="0">
            <a:gsLst>
              <a:gs pos="0">
                <a:srgbClr val="fef4a6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ior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2852640"/>
            <a:ext cx="1512720" cy="1224000"/>
          </a:xfrm>
          <a:prstGeom prst="ellipse">
            <a:avLst/>
          </a:prstGeom>
          <a:gradFill rotWithShape="0">
            <a:gsLst>
              <a:gs pos="0">
                <a:srgbClr val="fef6b3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a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64000" y="2708280"/>
            <a:ext cx="1513080" cy="1224000"/>
          </a:xfrm>
          <a:prstGeom prst="ellipse">
            <a:avLst/>
          </a:prstGeom>
          <a:gradFill rotWithShape="0">
            <a:gsLst>
              <a:gs pos="0">
                <a:srgbClr val="fefcec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2637000"/>
            <a:ext cx="1512720" cy="1223640"/>
          </a:xfrm>
          <a:prstGeom prst="ellipse">
            <a:avLst/>
          </a:prstGeom>
          <a:gradFill rotWithShape="0">
            <a:gsLst>
              <a:gs pos="0">
                <a:srgbClr val="fef8c5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32360" y="3716280"/>
            <a:ext cx="1512720" cy="1224000"/>
          </a:xfrm>
          <a:prstGeom prst="ellipse">
            <a:avLst/>
          </a:prstGeom>
          <a:gradFill rotWithShape="0">
            <a:gsLst>
              <a:gs pos="0">
                <a:srgbClr val="fef5ab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00720" y="3573360"/>
            <a:ext cx="1513080" cy="1224000"/>
          </a:xfrm>
          <a:prstGeom prst="ellipse">
            <a:avLst/>
          </a:prstGeom>
          <a:gradFill rotWithShape="0">
            <a:gsLst>
              <a:gs pos="0">
                <a:srgbClr val="fef9ce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gen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3716280"/>
            <a:ext cx="1512720" cy="1224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4000" y="3716280"/>
            <a:ext cx="1513080" cy="1224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FO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0C7-62AF-4588-9C6E-591AB49B58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476360" y="1060200"/>
            <a:ext cx="5353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</a:t>
            </a:r>
            <a:r>
              <a:rPr b="0" lang="it-IT" sz="1800" spc="-1" strike="noStrike">
                <a:solidFill>
                  <a:srgbClr val="ffef66"/>
                </a:solidFill>
                <a:latin typeface="Comic Sans MS"/>
              </a:rPr>
              <a:t>…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2500560"/>
            <a:ext cx="475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ostra scuola che è ubicata nel paese di Vergaio, ha conservato caratteristiche culturali proprie legate alla tradizione: feste folcloristiche, nuclei familiari radicati negli anni "vecchia maniera" (marito, moglie,figli, nonni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gli ultimi anni il paese si è notevol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pliato ed ha permesso l'insediamento di famiglie provenienti da altre regioni italiane e da altre nazioni.  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596360" y="33192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381040" cy="15620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64000" y="407664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riz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84720" y="486900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1280" y="162864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79640" y="5734080"/>
            <a:ext cx="6337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cuola d'Infanzia comunale di Prato "Vergaio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ia di Vergaio, 51    0574 811190   0574 811190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si.vergaio@scuole.prato.i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00720" y="4868640"/>
            <a:ext cx="1079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3F7-47BE-44B4-96D5-C2C7DD6A48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2233440"/>
            <a:ext cx="475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bambini iscritti sono 100 in età compresa fra i 3 e i 6 anni suddivisi in 4 gruppi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ni gruppo eterogeneo per età è formato da 25 bambini in età contigue: 3/4, 4/5, 5/6 anni con 2 insegnant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formazione dei gruppi varia ogni anno in relazione all'età degli utenti nuovi ammess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i gruppi sezione sono inseriti bambini disabil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insegnanti sono 8 e sono supportate dalle insegnanti di sostegno dei bambini disabili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2276640"/>
            <a:ext cx="237636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mb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51640" y="3284640"/>
            <a:ext cx="237636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ducat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51640" y="4292640"/>
            <a:ext cx="237636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llab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944-37DF-419C-ABD5-C15A2945BF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a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2004840"/>
            <a:ext cx="55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cuola è un edificio costruito negli anni '60, a 2 piani , recentemente ristrutturato, con un ampio giardino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spazi interni, agiti e familiarizzati da tutti i bambini della scuola, sono organizzati per lo svolgimento di attività polivalenti e laboratorial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sezioni sono 4 e sono adibite per accogliere gruppi eterogenei di età contigua (3/4 , 4/5, 5/6 anni) e per svolgere le consuete attività educative giornaliere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 piano superiore è stato allestito uno spazio per il gioco di finzione che rievoca l'ambiente familiare con vari ang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81400" cy="17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C86-E7D7-4E9C-BAC1-6C64DAA03F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iornat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9640" y="2004840"/>
            <a:ext cx="777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8,00-8,4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Accoglienza di tutti i bambini in una stanz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8,40-9,0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L'accoglienza prosegue nelle altre stanz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9,00-11,5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Routines e attività didattica nei gruppi sezion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,30-11,5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Attività di laboratorio organizzato a piccoli gruppi di bambini di sezioni diverse omogenee per età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1,50-13,0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Pranzo diviso in 4 stanze scelte liberamente dai bambini. Le insegnanti ruotano nelle stanze a scadenza settimanal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3,00-14,1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Attività ludica in giardino (tempo permettendo); attività ludica autogestita in due stanze-visione di un cartone animat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4,15-16,0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Bambini di 3/4 anni riposano suddivisi in due stanze; I bambini di 5 anni svolgono attività nei gruppi sezion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6,00-16,1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Preparazione per l'uscit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6,15-16,4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Uscita. I bambini suddivisi in due stanze per fasce di età contigue attendono i genit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7B2-44BB-4331-8A83-53E04913BF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9640" y="200484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sa facciamo - Organizzazione 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nostra metodologia di lavoro privilegia una programmazione per concetti con attenzione specifica ai processi di apprendimento dei bambini e alle strategie educative messe in atto da noi insegnanti, nei percorsi didattic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esperienze sono molteplici e diversificate, con attività suggerite dagli stessi bambini, che mettono alla prova il loro pensiero con domande, ipotesi , risposte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attività di sezione si alternano con quelle di intersezione e creano rapporti stimolanti fra insegnanti e bambini e consentono una più articolata fruizione degli spazi, dei materiali ludici, dei sussidi didattic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o tipo di organizzazione consente l'interazione tra i bambini anche di età diverse e scambi che arricchiscono i rapporti anche attraverso occasioni di aiuto reciproc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2F5-DAF4-403B-92DA-B16661DD67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200484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sa facciamo - Organizzazione 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pran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e nostre attività educative il pranzo assume un particolare significato affettivo emotivo nel vissuto di ogni bambino il quale ha l'opportunità giornalmente di scegliere i compagni, le insegnanti, la stanza per condividere il rito di questo importante momento.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e us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aratteristica della nostra scuola sono le uscite, che consentono l'esperienza e l'osservazione diretta per supportare l'esperienza didattica e offrono ai bambini opportunità di esplorazione in ambiti diversi e possibilità conoscitive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e uscite didattiche partecipano tutti i gruppi sezione, utilizzando i pulman, quando il luogo di destinazione non è raggiungibile a pied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40D-0EB9-4225-B07A-BCEB76125E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 1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PRESENT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 …. DEL PLESSO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125360"/>
            <a:ext cx="108108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2205000"/>
            <a:ext cx="208908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scr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" y="2781360"/>
            <a:ext cx="208908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dul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3357720"/>
            <a:ext cx="208908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bbigl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3933720"/>
            <a:ext cx="2089080" cy="647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24360" y="234936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Calendario scolas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Piano offerta form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Menu mensa scolas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Pre e post scu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Trasporto scolastico Regolamento commissione men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2fb2"/>
                </a:solidFill>
                <a:latin typeface="Comic Sans MS"/>
              </a:rPr>
              <a:t>Regolamento dei servizi educativi per l'infanz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7280" y="5373720"/>
            <a:ext cx="4392720" cy="934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formazioni sul funzionament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B52-4F73-47B8-8118-38033626FB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77080" y="393372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LABO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Comic Sans MS"/>
              </a:rPr>
              <a:t>La documentazione di superficie</a:t>
            </a:r>
            <a:r>
              <a:rPr b="0" lang="it-IT" sz="4000" spc="-1" strike="noStrike">
                <a:solidFill>
                  <a:srgbClr val="9933ff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476360" y="119628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ILI INDICI PER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PRES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 UNA ATTIVITA’ – DI UN PROG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280" y="278136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206064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H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27640" y="1700280"/>
            <a:ext cx="151308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92360" y="328464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71640" y="2852640"/>
            <a:ext cx="151308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35640" y="270828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U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32720" y="2852640"/>
            <a:ext cx="151272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CCO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32360" y="3716280"/>
            <a:ext cx="2016000" cy="122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LUT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5373720"/>
            <a:ext cx="3097080" cy="720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riabili com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1916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4EC-C727-416B-9928-F15F500D8D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632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che cosa ha a che f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no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342900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peri profess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184464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dificazion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5229360"/>
            <a:ext cx="230508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429000"/>
            <a:ext cx="2448000" cy="10065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ormazion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ultu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987280" y="2204640"/>
            <a:ext cx="1297080" cy="14436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7280" y="2491920"/>
            <a:ext cx="1584360" cy="136836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2565360"/>
            <a:ext cx="0" cy="86364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4508640"/>
            <a:ext cx="863640" cy="72072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6DF-9CAB-4988-A8F9-D8CE4AAF2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00"/>
                </a:solidFill>
                <a:latin typeface="Comic Sans MS"/>
              </a:rPr>
              <a:t>La documentazione di approfondimento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755640" y="1197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esperi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1280" y="242100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prog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08360" y="465300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ssier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um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76720" y="1125360"/>
            <a:ext cx="1297080" cy="936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43280" y="15573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84720" y="2349360"/>
            <a:ext cx="1297080" cy="936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27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580000" y="2060640"/>
            <a:ext cx="432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355640" y="3213000"/>
            <a:ext cx="360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FA3-4114-4FDD-8BC8-A1C5CEB5AF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00"/>
                </a:solidFill>
                <a:latin typeface="Comic Sans MS"/>
              </a:rPr>
              <a:t>Criteri di scel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43000" y="3200400"/>
            <a:ext cx="3780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Originalit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Suc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Eccellen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29080" y="3386160"/>
            <a:ext cx="377208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Rispondenza ai bisogni ipotizzati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dell’utenza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170028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Arial"/>
              </a:rPr>
              <a:t>Parametri di significatività per la selezione delle esperienze da documentare in approfo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068640"/>
            <a:ext cx="3886200" cy="2133720"/>
          </a:xfrm>
          <a:prstGeom prst="ellipse">
            <a:avLst/>
          </a:prstGeom>
          <a:solidFill>
            <a:srgbClr val="ffe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48000" y="40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004-926F-4200-BA0E-690314044B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Comic Sans MS"/>
              </a:rPr>
              <a:t>Dossier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1800" y="2055600"/>
            <a:ext cx="180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19280" y="2708280"/>
            <a:ext cx="310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516720" y="1125360"/>
          <a:ext cx="99864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9986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1692360" y="2133720"/>
            <a:ext cx="1655640" cy="10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40000" y="2852640"/>
            <a:ext cx="1871640" cy="109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u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8000" y="2637000"/>
            <a:ext cx="1800360" cy="0"/>
          </a:xfrm>
          <a:prstGeom prst="line">
            <a:avLst/>
          </a:prstGeom>
          <a:ln w="28440">
            <a:solidFill>
              <a:srgbClr val="ffb8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40000" y="4292640"/>
            <a:ext cx="180036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3933720"/>
            <a:ext cx="0" cy="312840"/>
          </a:xfrm>
          <a:prstGeom prst="line">
            <a:avLst/>
          </a:prstGeom>
          <a:ln w="3816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40360" y="4869000"/>
            <a:ext cx="1008000" cy="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3357720"/>
            <a:ext cx="324000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che 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chi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quali 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1908000"/>
            <a:ext cx="310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920" y="1052640"/>
            <a:ext cx="352728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rrare ciò che è neces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43280" y="1052640"/>
            <a:ext cx="1513080" cy="647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gnif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500280"/>
            <a:ext cx="1656000" cy="360360"/>
          </a:xfrm>
          <a:prstGeom prst="rightArrow">
            <a:avLst>
              <a:gd name="adj1" fmla="val 50000"/>
              <a:gd name="adj2" fmla="val 11488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48360" y="33336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19640" y="2205000"/>
            <a:ext cx="2305080" cy="102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buone “intenzion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FA7-B734-4706-8856-7BBE8BFC86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Comic Sans MS"/>
              </a:rPr>
              <a:t>IL Dossi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87640" y="1484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l’esperienza didat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schede, griglie, consegne... </a:t>
            </a:r>
            <a:br>
              <a:rPr sz="2800"/>
            </a:b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a6619"/>
                </a:solidFill>
                <a:latin typeface="Comic Sans MS"/>
              </a:rPr>
              <a:t>i risultati dell’esperien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419640" y="1773360"/>
            <a:ext cx="1511280" cy="574560"/>
          </a:xfrm>
          <a:prstGeom prst="line">
            <a:avLst/>
          </a:prstGeom>
          <a:ln w="9360">
            <a:solidFill>
              <a:srgbClr val="0a66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708360" y="2708280"/>
            <a:ext cx="1222560" cy="504720"/>
          </a:xfrm>
          <a:prstGeom prst="line">
            <a:avLst/>
          </a:prstGeom>
          <a:ln w="9360">
            <a:solidFill>
              <a:srgbClr val="0a66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64000" y="4005360"/>
            <a:ext cx="1366920" cy="576000"/>
          </a:xfrm>
          <a:prstGeom prst="line">
            <a:avLst/>
          </a:prstGeom>
          <a:ln w="9360">
            <a:solidFill>
              <a:srgbClr val="0a66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492360" y="5661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356000" y="5661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6443640" y="5589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7308720" y="55897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2556000" y="56610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24000" y="1052640"/>
            <a:ext cx="3887640" cy="1439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La descrizione di </a:t>
            </a:r>
            <a:br>
              <a:rPr sz="2000"/>
            </a:b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un processo edu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2637000"/>
            <a:ext cx="3887640" cy="1439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I materiali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Sono servi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Per realizzare il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4149720"/>
            <a:ext cx="3887640" cy="1440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I prodotti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a6619"/>
                </a:solidFill>
                <a:latin typeface="Comic Sans MS"/>
              </a:rPr>
              <a:t>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7E3-ECC4-4C64-8923-1D8A070540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359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Comic Sans MS"/>
              </a:rPr>
              <a:t>Dossier: cosa contiene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00" y="2055600"/>
            <a:ext cx="180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19280" y="2708280"/>
            <a:ext cx="310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190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1908000"/>
            <a:ext cx="310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19280" y="1916280"/>
            <a:ext cx="144468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et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51280" y="3141720"/>
            <a:ext cx="13716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r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08360" y="1268280"/>
            <a:ext cx="151452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zz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56360" y="1989000"/>
            <a:ext cx="1371600" cy="5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360" y="2781360"/>
            <a:ext cx="82368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500720" y="2204640"/>
            <a:ext cx="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364000" y="2781360"/>
            <a:ext cx="640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64000" y="4941720"/>
            <a:ext cx="194472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4724280"/>
            <a:ext cx="1728720" cy="71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72360" y="4005360"/>
            <a:ext cx="2303280" cy="85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z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4360" y="3933720"/>
            <a:ext cx="16002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35280" y="4581360"/>
            <a:ext cx="194472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a66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67280" y="4221000"/>
            <a:ext cx="914400" cy="343080"/>
          </a:xfrm>
          <a:prstGeom prst="downArrowCallout">
            <a:avLst>
              <a:gd name="adj1" fmla="val 66638"/>
              <a:gd name="adj2" fmla="val 66632"/>
              <a:gd name="adj3" fmla="val 16667"/>
              <a:gd name="adj4" fmla="val 66667"/>
            </a:avLst>
          </a:prstGeom>
          <a:solidFill>
            <a:srgbClr val="0a66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9AC-D175-486F-BE4B-4AC0E9CFD1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835280" y="3141720"/>
            <a:ext cx="61214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Singoli docen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consiglio di clas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colleg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rete di scuol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niziative extra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03640" y="2276640"/>
            <a:ext cx="273672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Chi la promu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0360" y="2781360"/>
            <a:ext cx="792360" cy="11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735038"/>
                <a:lnTo>
                  <a:pt x="886" y="6516"/>
                </a:lnTo>
                <a:arcTo wR="10800" hR="10800" stAng="-9397847" swAng="9735038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0D6-7FAC-45A4-8AE5-207920FE8E4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835280" y="3141720"/>
            <a:ext cx="61214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Altre scuo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reti di scuo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enti di ricer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università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associazio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stituzioni d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3203640" y="2276640"/>
            <a:ext cx="288108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Quali 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le forze coinvo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67280" y="2563920"/>
            <a:ext cx="865440" cy="1225440"/>
          </a:xfrm>
          <a:custGeom>
            <a:avLst/>
            <a:gdLst>
              <a:gd name="textAreaLeft" fmla="*/ 0 w 865440"/>
              <a:gd name="textAreaRight" fmla="*/ 865800 w 8654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496886"/>
                <a:lnTo>
                  <a:pt x="1206" y="5840"/>
                </a:lnTo>
                <a:arcTo wR="10800" hR="10800" stAng="-9159695" swAng="9496886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20267400">
            <a:off x="898200" y="1346040"/>
            <a:ext cx="1800360" cy="1150920"/>
          </a:xfrm>
          <a:prstGeom prst="ellipse">
            <a:avLst/>
          </a:prstGeom>
          <a:gradFill rotWithShape="0">
            <a:gsLst>
              <a:gs pos="0">
                <a:srgbClr val="feeec5"/>
              </a:gs>
              <a:gs pos="100000">
                <a:srgbClr val="ffb800"/>
              </a:gs>
            </a:gsLst>
            <a:lin ang="148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ribu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951600">
            <a:off x="6372000" y="1197000"/>
            <a:ext cx="1800000" cy="1150920"/>
          </a:xfrm>
          <a:prstGeom prst="ellipse">
            <a:avLst/>
          </a:prstGeom>
          <a:gradFill rotWithShape="0">
            <a:gsLst>
              <a:gs pos="0">
                <a:srgbClr val="feeec5"/>
              </a:gs>
              <a:gs pos="100000">
                <a:srgbClr val="ffb800"/>
              </a:gs>
            </a:gsLst>
            <a:lin ang="125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essa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687-9C00-45BF-8815-430F453272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835280" y="3141720"/>
            <a:ext cx="61214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roblemi interni alla scuol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roblemi del/dal territor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nteressi dei ragazzi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nteresse culturale dei docen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roposte es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3203640" y="2276640"/>
            <a:ext cx="273672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erché si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67280" y="2563920"/>
            <a:ext cx="865440" cy="1225440"/>
          </a:xfrm>
          <a:custGeom>
            <a:avLst/>
            <a:gdLst>
              <a:gd name="textAreaLeft" fmla="*/ 0 w 865440"/>
              <a:gd name="textAreaRight" fmla="*/ 865800 w 8654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496886"/>
                <a:lnTo>
                  <a:pt x="1206" y="5840"/>
                </a:lnTo>
                <a:arcTo wR="10800" hR="10800" stAng="-9159695" swAng="9496886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6FF-9F7C-4282-A56B-DC9C44AF73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539640" y="2997360"/>
            <a:ext cx="8136000" cy="36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Qual è il contesto sociale, culturale e pedagog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della realtà scolastica in cu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l'esperienza è maturata e in particolare della cla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o delle classi direttamente interess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Quali sono i punti di forza e quali quelli di debolezza?</a:t>
            </a:r>
            <a:br>
              <a:rPr sz="1800"/>
            </a:b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Quale problema o quali problemi hanno spinto a progettare l'esperienz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Che cosa si intendeva stimolare/valorizzar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Oppure che cosa si voleva superare/miglior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3203640" y="2276640"/>
            <a:ext cx="273672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Sui perché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0360" y="2781360"/>
            <a:ext cx="792360" cy="11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187379"/>
                <a:lnTo>
                  <a:pt x="1691" y="4998"/>
                </a:lnTo>
                <a:arcTo wR="10800" hR="10800" stAng="-8850189" swAng="9187379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20482800">
            <a:off x="358920" y="1558440"/>
            <a:ext cx="24843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6"/>
              </a:gs>
              <a:gs pos="100000">
                <a:srgbClr val="fef5b0"/>
              </a:gs>
            </a:gsLst>
            <a:lin ang="9216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dro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292400">
            <a:off x="6156000" y="1558800"/>
            <a:ext cx="24843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6ba"/>
              </a:gs>
              <a:gs pos="100000">
                <a:srgbClr val="ffef66"/>
              </a:gs>
            </a:gsLst>
            <a:lin ang="1221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tiv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2A6-1ACB-4ADB-91C9-BEF76BB85E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835280" y="3141720"/>
            <a:ext cx="61214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6619"/>
                </a:solidFill>
                <a:latin typeface="Comic Sans MS"/>
              </a:rPr>
              <a:t>Disciplinari, trasversal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6619"/>
                </a:solidFill>
                <a:latin typeface="Comic Sans MS"/>
              </a:rPr>
              <a:t>Argomenti, tema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6619"/>
                </a:solidFill>
                <a:latin typeface="Comic Sans MS"/>
              </a:rPr>
              <a:t>Principali, priori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203640" y="2276640"/>
            <a:ext cx="273672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Quali 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 conten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2563920"/>
            <a:ext cx="865440" cy="1225440"/>
          </a:xfrm>
          <a:custGeom>
            <a:avLst/>
            <a:gdLst>
              <a:gd name="textAreaLeft" fmla="*/ 0 w 865440"/>
              <a:gd name="textAreaRight" fmla="*/ 865800 w 8654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496886"/>
                <a:lnTo>
                  <a:pt x="1206" y="5840"/>
                </a:lnTo>
                <a:arcTo wR="10800" hR="10800" stAng="-9159695" swAng="9496886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01B-1A27-4A46-908A-5BE79E91F75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er chi documentare?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400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Doce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Stude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Genit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Sistema scuol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Esterno  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Una forma di  documentazion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iù forme di documentazion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ali priorità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00720" y="1772280"/>
            <a:ext cx="3733560" cy="2971800"/>
          </a:xfrm>
          <a:prstGeom prst="rect">
            <a:avLst/>
          </a:prstGeom>
          <a:solidFill>
            <a:srgbClr val="ffb8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05E-2537-4930-A41A-1B3B674006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835280" y="2997360"/>
            <a:ext cx="6481800" cy="3456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coerenza con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metodologie adott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significa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in merito ai problemi educativ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operatività su percorsi epistem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3203640" y="2276640"/>
            <a:ext cx="273672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Sui contenuti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40360" y="2781360"/>
            <a:ext cx="792360" cy="11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2" y="9742"/>
                </a:moveTo>
                <a:arcTo wR="-10800" hR="-10800" stAng="-10462809" swAng="-9187379"/>
                <a:lnTo>
                  <a:pt x="1691" y="4998"/>
                </a:lnTo>
                <a:arcTo wR="10800" hR="10800" stAng="-8850189" swAng="9187379"/>
                <a:lnTo>
                  <a:pt x="24235" y="12122"/>
                </a:lnTo>
                <a:lnTo>
                  <a:pt x="21284" y="14545"/>
                </a:lnTo>
                <a:lnTo>
                  <a:pt x="18861" y="11593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8dc5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0671800">
            <a:off x="358560" y="1558440"/>
            <a:ext cx="24843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6"/>
              </a:gs>
              <a:gs pos="100000">
                <a:srgbClr val="fef5b0"/>
              </a:gs>
            </a:gsLst>
            <a:lin ang="903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splici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349400">
            <a:off x="6156360" y="1558800"/>
            <a:ext cx="24843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6ba"/>
              </a:gs>
              <a:gs pos="100000">
                <a:srgbClr val="ffef66"/>
              </a:gs>
            </a:gsLst>
            <a:lin ang="1215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tiv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DA1-0962-4EFC-9223-8BE2AAB013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5508720" y="4149720"/>
            <a:ext cx="2881080" cy="151272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Q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Metodolog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87640" y="1052640"/>
            <a:ext cx="2664000" cy="1439640"/>
          </a:xfrm>
          <a:prstGeom prst="downArrowCallout">
            <a:avLst>
              <a:gd name="adj1" fmla="val 46266"/>
              <a:gd name="adj2" fmla="val 46262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87640" y="2492280"/>
            <a:ext cx="2881440" cy="151308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Che cosa si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0000" y="4076640"/>
            <a:ext cx="2881440" cy="158436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Come è 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organizz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il lavo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3640" y="4724280"/>
            <a:ext cx="2881080" cy="158436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Quale percor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962-125E-41D0-AEE0-B9900E11C6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619280" y="2997360"/>
            <a:ext cx="67676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articolazion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Come si è sviluppata l'esperienz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sono stati i passi più significativi del percors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gli aspetti più originali?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4920" y="2492280"/>
            <a:ext cx="2881440" cy="151308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20967600">
            <a:off x="468000" y="1125360"/>
            <a:ext cx="180000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ont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ercor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 ta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048800">
            <a:off x="6372000" y="1844640"/>
            <a:ext cx="1944720" cy="129528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24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ni ta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ve ess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ppresen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20967600">
            <a:off x="971280" y="2133720"/>
            <a:ext cx="180000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signific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966-62D4-4566-A9C6-238B2A01F4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92360" y="2852640"/>
            <a:ext cx="6337080" cy="3384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Metodologie a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Apprendimento coo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Uso didattico delle tec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Didattica laboratoriale, laborator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Metodo della  ricerca-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492280"/>
            <a:ext cx="2881440" cy="151308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Metod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951000">
            <a:off x="6876720" y="2637000"/>
            <a:ext cx="1800360" cy="122364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2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upp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847200">
            <a:off x="6443280" y="1267920"/>
            <a:ext cx="180036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26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borator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20682600">
            <a:off x="468000" y="1267920"/>
            <a:ext cx="180000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41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llabo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 doce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20521800">
            <a:off x="826560" y="2707920"/>
            <a:ext cx="180036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5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ecifici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pporti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sciplinar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51280" y="5589720"/>
            <a:ext cx="1800360" cy="105228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ferime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D4F-30F6-4058-8347-826833E0F4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619280" y="2997360"/>
            <a:ext cx="676764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risorse e quali strumenti sono stati necess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nelle diverse fasi di realizzazione dell'esperienza? 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Strumenti e risorse erano già presenti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Se no, come è stata programm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la loro ricerca o la loro ideazione/elaborazione?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74920" y="2492280"/>
            <a:ext cx="2881440" cy="151308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Strumenti/</a:t>
            </a:r>
            <a:br>
              <a:rPr sz="2400"/>
            </a:b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20682600">
            <a:off x="468000" y="1267920"/>
            <a:ext cx="180000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41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inanziame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776000">
            <a:off x="6156000" y="1413000"/>
            <a:ext cx="180036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172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ali strut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C42-CD72-4AA1-A3FB-B6699742D0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258920" y="2997360"/>
            <a:ext cx="748980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nte sono state le fasi di valutazione?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Che cosa hanno riguardato?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criteri hanno guidato le verifiche?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strumenti sono stati utilizzati? 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Erano già in uso e in tal caso come sono stati adattati?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I risultati delle eventuali valutazioni interme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hanno apportato delle modifiche alle fasi succe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dell'esperienza? ?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74920" y="2492280"/>
            <a:ext cx="2881440" cy="122400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350-DC4A-4DAE-BB19-76FBD8252F0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619280" y="2997360"/>
            <a:ext cx="684036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In che misura gli obiettivi iniz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sono stati raggiunti? </a:t>
            </a:r>
            <a:br>
              <a:rPr sz="1800"/>
            </a:b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Quali ricadute sono state rilev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nella didattica corrente o nei comportamenti degli alu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che possano essere fatte risalire a questa esperienz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I risultati della valutazione finale hanno eventual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suggerito degli spunti di cambi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per un rinnovamento dell'esperienza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74920" y="2492280"/>
            <a:ext cx="2881440" cy="122400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353000">
            <a:off x="6300360" y="1125000"/>
            <a:ext cx="180036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21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teria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924600">
            <a:off x="6075360" y="2133720"/>
            <a:ext cx="1943280" cy="129672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257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tteggiame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20682600">
            <a:off x="977760" y="1823760"/>
            <a:ext cx="1944720" cy="129708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41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ces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20682600">
            <a:off x="394920" y="907560"/>
            <a:ext cx="1800360" cy="1224000"/>
          </a:xfrm>
          <a:prstGeom prst="ellipse">
            <a:avLst/>
          </a:prstGeom>
          <a:gradFill rotWithShape="0">
            <a:gsLst>
              <a:gs pos="0">
                <a:srgbClr val="fef7c4"/>
              </a:gs>
              <a:gs pos="100000">
                <a:srgbClr val="ffef66"/>
              </a:gs>
            </a:gsLst>
            <a:lin ang="1441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portamen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454-545D-4920-AC65-A9E464FA365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619280" y="2997360"/>
            <a:ext cx="6840360" cy="3384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efadb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Produttori: ragazzi? docent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Quali tipolog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a6619"/>
                </a:solidFill>
                <a:latin typeface="Comic Sans MS"/>
              </a:rPr>
              <a:t>Il prodotto può essere utilizzato come nuova risorsa?</a:t>
            </a:r>
            <a:r>
              <a:rPr b="0" lang="it-IT" sz="1800" spc="-1" strike="noStrike">
                <a:solidFill>
                  <a:srgbClr val="0a661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a661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681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00"/>
                </a:solidFill>
                <a:latin typeface="Comic Sans MS"/>
              </a:rPr>
              <a:t>Dentro un’esperien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3276720" y="1052640"/>
            <a:ext cx="2663640" cy="1439640"/>
          </a:xfrm>
          <a:prstGeom prst="downArrowCallout">
            <a:avLst>
              <a:gd name="adj1" fmla="val 46260"/>
              <a:gd name="adj2" fmla="val 46255"/>
              <a:gd name="adj3" fmla="val 16667"/>
              <a:gd name="adj4" fmla="val 66667"/>
            </a:avLst>
          </a:prstGeom>
          <a:gradFill rotWithShape="0">
            <a:gsLst>
              <a:gs pos="0">
                <a:srgbClr val="0080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e cosa d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4920" y="2492280"/>
            <a:ext cx="2881440" cy="1224000"/>
          </a:xfrm>
          <a:prstGeom prst="ellipse">
            <a:avLst/>
          </a:prstGeom>
          <a:gradFill rotWithShape="0">
            <a:gsLst>
              <a:gs pos="0">
                <a:srgbClr val="ffb800"/>
              </a:gs>
              <a:gs pos="100000">
                <a:srgbClr val="fede8d"/>
              </a:gs>
            </a:gsLst>
            <a:lin ang="81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6619"/>
                </a:solidFill>
                <a:latin typeface="Comic Sans MS"/>
              </a:rPr>
              <a:t>Pro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F50-8E0C-4A68-8D44-71875B58D60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00"/>
                </a:solidFill>
                <a:latin typeface="Comic Sans MS"/>
              </a:rPr>
              <a:t>Quanto di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971640" y="2133720"/>
            <a:ext cx="3313080" cy="2232000"/>
          </a:xfrm>
          <a:prstGeom prst="cloudCallout">
            <a:avLst>
              <a:gd name="adj1" fmla="val -69212"/>
              <a:gd name="adj2" fmla="val 84069"/>
            </a:avLst>
          </a:prstGeom>
          <a:gradFill rotWithShape="0">
            <a:gsLst>
              <a:gs pos="0">
                <a:srgbClr val="e8f3e8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re s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tto questo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59280" y="1773360"/>
            <a:ext cx="3097440" cy="1655640"/>
          </a:xfrm>
          <a:prstGeom prst="wedgeRoundRectCallout">
            <a:avLst>
              <a:gd name="adj1" fmla="val 49949"/>
              <a:gd name="adj2" fmla="val 150958"/>
              <a:gd name="adj3" fmla="val 16667"/>
            </a:avLst>
          </a:prstGeom>
          <a:gradFill rotWithShape="0">
            <a:gsLst>
              <a:gs pos="0">
                <a:srgbClr val="fef5e1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olo quello 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rve per comprend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3280" y="3933720"/>
            <a:ext cx="2448000" cy="2016360"/>
          </a:xfrm>
          <a:prstGeom prst="wedgeEllipseCallout">
            <a:avLst>
              <a:gd name="adj1" fmla="val 81972"/>
              <a:gd name="adj2" fmla="val 81416"/>
            </a:avLst>
          </a:prstGeom>
          <a:gradFill rotWithShape="0">
            <a:gsLst>
              <a:gs pos="0">
                <a:srgbClr val="fefefe"/>
              </a:gs>
              <a:gs pos="100000">
                <a:srgbClr val="ffb8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… quello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atteri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sper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1619280" y="4581360"/>
          <a:ext cx="2951280" cy="15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581360"/>
                    <a:ext cx="2951280" cy="15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763-0F3B-4DE8-8DD0-F1807D0AC88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266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Come? Quali strumenti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755640" y="162864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5640" y="278136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TOGRAF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40" y="393372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ELECAM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03640" y="407664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PERTESTO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d-rom o sito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59280" y="537372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IL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00000" y="508464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32360" y="285264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SSEGNA FOTOGRAFIC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wer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88000" y="1628640"/>
            <a:ext cx="3384360" cy="863640"/>
          </a:xfrm>
          <a:prstGeom prst="roundRect">
            <a:avLst>
              <a:gd name="adj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IB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40360" y="4581360"/>
            <a:ext cx="7189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40360" y="4508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40360" y="314172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40360" y="3284640"/>
            <a:ext cx="86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140360" y="234900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4036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40360" y="1989000"/>
            <a:ext cx="936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40360" y="1989000"/>
            <a:ext cx="79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84720" y="544500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140360" y="4365360"/>
            <a:ext cx="863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140360" y="349992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0D4-B8C1-40C6-9912-AA241413AEF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70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ché – per chi documenta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692280"/>
            <a:ext cx="201600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tizzar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udio di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1700280"/>
            <a:ext cx="1655640" cy="7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are l'innovazione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00" y="3047040"/>
            <a:ext cx="217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4581360"/>
            <a:ext cx="2016360" cy="1511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ndere "visibile" la ricchezza della produzione scola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508640"/>
            <a:ext cx="2087640" cy="151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re la progettazione integ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4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2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. Orientata al sistem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314172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. Orientata al territorio - u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1628640"/>
            <a:ext cx="1657080" cy="936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mbiare e confrontare esperi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645000"/>
            <a:ext cx="1441440" cy="647640"/>
          </a:xfrm>
          <a:prstGeom prst="downArrowCallout">
            <a:avLst>
              <a:gd name="adj1" fmla="val 55647"/>
              <a:gd name="adj2" fmla="val 55642"/>
              <a:gd name="adj3" fmla="val 16667"/>
              <a:gd name="adj4" fmla="val 6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1700280"/>
            <a:ext cx="1800000" cy="57636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C8C-DA8A-4409-845E-FD3860F69E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7020000" y="5589720"/>
            <a:ext cx="1439640" cy="792000"/>
          </a:xfrm>
          <a:prstGeom prst="wedgeRoundRectCallout">
            <a:avLst>
              <a:gd name="adj1" fmla="val -88699"/>
              <a:gd name="adj2" fmla="val -89879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.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l compi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539640" y="1341360"/>
            <a:ext cx="2808360" cy="93528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hede per la descr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8360" y="2565360"/>
            <a:ext cx="280836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nsimento delle 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24360" y="1268280"/>
            <a:ext cx="172728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gu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tu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3789360"/>
            <a:ext cx="2808360" cy="936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nsimento dei prodot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16360" y="3213000"/>
            <a:ext cx="1726920" cy="9367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el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85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27640" y="2637000"/>
            <a:ext cx="1297080" cy="10080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hed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nt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72360" y="1268280"/>
            <a:ext cx="1296720" cy="10083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hed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nt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43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1964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076720" y="4292640"/>
            <a:ext cx="1297080" cy="1008000"/>
          </a:xfrm>
          <a:prstGeom prst="foldedCorner">
            <a:avLst>
              <a:gd name="adj" fmla="val 12500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s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00720" y="3933720"/>
            <a:ext cx="57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71640" y="5229360"/>
            <a:ext cx="1297080" cy="10080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hed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nte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32000" y="4724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04000" y="3860640"/>
            <a:ext cx="1440000" cy="576360"/>
          </a:xfrm>
          <a:prstGeom prst="wedgeRoundRectCallout">
            <a:avLst>
              <a:gd name="adj1" fmla="val -79546"/>
              <a:gd name="adj2" fmla="val 84986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v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59640" y="5157720"/>
            <a:ext cx="1439640" cy="576360"/>
          </a:xfrm>
          <a:prstGeom prst="wedgeRoundRectCallout">
            <a:avLst>
              <a:gd name="adj1" fmla="val -64444"/>
              <a:gd name="adj2" fmla="val -115013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r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59280" y="5805360"/>
            <a:ext cx="1944720" cy="719280"/>
          </a:xfrm>
          <a:prstGeom prst="wedgeRoundRectCallout">
            <a:avLst>
              <a:gd name="adj1" fmla="val 6981"/>
              <a:gd name="adj2" fmla="val -130574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o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to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D6A-960B-40AF-9A5D-5860AAA37D6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866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 di gruppo 1 : </a:t>
            </a:r>
            <a:r>
              <a:rPr b="0" lang="it-IT" sz="2400" spc="-1" strike="noStrike">
                <a:solidFill>
                  <a:srgbClr val="703dff"/>
                </a:solidFill>
                <a:latin typeface="Comic Sans MS"/>
              </a:rPr>
              <a:t>Scheda di presentazione </a:t>
            </a:r>
            <a:br>
              <a:rPr sz="2400"/>
            </a:br>
            <a:r>
              <a:rPr b="0" lang="it-IT" sz="2400" spc="-1" strike="noStrike">
                <a:solidFill>
                  <a:srgbClr val="703dff"/>
                </a:solidFill>
                <a:latin typeface="Comic Sans MS"/>
              </a:rPr>
              <a:t>della scuola/del pl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712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“VOCI” CHE RITENGO ESSENZIALI PER TUTTI SON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VOCI SPECIFICHE O AGGIUNTIVE PER LA MIA SCUOLA POTREBBERO ESSE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VOCE CHE SCELGO DI DESCRIVERE E’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ROVO A SVILUPPARE LA VOCE CHE HO SCEL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783-6505-4578-94AB-1D768E88DF4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866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 di gruppo 2 : </a:t>
            </a:r>
            <a:r>
              <a:rPr b="1" lang="it-IT" sz="2400" spc="-1" strike="noStrike">
                <a:solidFill>
                  <a:srgbClr val="9933ff"/>
                </a:solidFill>
                <a:latin typeface="Comic Sans MS"/>
              </a:rPr>
              <a:t>Scheda di presentazione </a:t>
            </a:r>
            <a:br>
              <a:rPr sz="2400"/>
            </a:br>
            <a:r>
              <a:rPr b="1" lang="it-IT" sz="2400" spc="-1" strike="noStrike">
                <a:solidFill>
                  <a:srgbClr val="9933ff"/>
                </a:solidFill>
                <a:latin typeface="Comic Sans MS"/>
              </a:rPr>
              <a:t>Di una attività /di un progetto</a:t>
            </a:r>
            <a:r>
              <a:rPr b="0" lang="it-IT" sz="2400" spc="-1" strike="noStrike">
                <a:solidFill>
                  <a:srgbClr val="6b981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712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“VOCI” CHE RITENGO ESSENZIALI PER TUTTI SON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VOCI SPECIFICHE O AGGIUNTIVE PER LA MIA ATTIVITA’ SONO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ATTIVITA’ CHE SCELGO DI DESCRIVERE  E’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ROVO A SVILUPPARE L’ATTIVITA’ CHE HO SCEL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521-3681-46B1-9712-F04787BCBE4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134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to per la documentazione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1258920" y="1197000"/>
            <a:ext cx="6842160" cy="504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58920" y="1197000"/>
            <a:ext cx="4176720" cy="719280"/>
          </a:xfrm>
          <a:prstGeom prst="flowChartDelay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uole / pl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58920" y="3213000"/>
            <a:ext cx="4176720" cy="719280"/>
          </a:xfrm>
          <a:prstGeom prst="flowChartDelay">
            <a:avLst/>
          </a:prstGeom>
          <a:solidFill>
            <a:srgbClr val="6b9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comu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59280" y="4437000"/>
            <a:ext cx="4176720" cy="719280"/>
          </a:xfrm>
          <a:prstGeom prst="flowChartDelay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in primo p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92360" y="2205000"/>
            <a:ext cx="4176720" cy="719280"/>
          </a:xfrm>
          <a:prstGeom prst="flowChartDelay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specif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58920" y="5516640"/>
            <a:ext cx="4176720" cy="718920"/>
          </a:xfrm>
          <a:prstGeom prst="flowChartDelay">
            <a:avLst/>
          </a:prstGeom>
          <a:solidFill>
            <a:srgbClr val="fb6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ppuntamenti/News…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87280" y="4292640"/>
            <a:ext cx="1152720" cy="93672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32000" y="2133720"/>
            <a:ext cx="1152360" cy="93636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332-8770-4A11-A123-3AF3B634F6B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134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Sito per la documentazione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539640" y="1197000"/>
            <a:ext cx="4176720" cy="719280"/>
          </a:xfrm>
          <a:prstGeom prst="flowChartDelay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uole / pl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9640" y="3357720"/>
            <a:ext cx="4176720" cy="718920"/>
          </a:xfrm>
          <a:prstGeom prst="flowChartDelay">
            <a:avLst/>
          </a:prstGeom>
          <a:solidFill>
            <a:srgbClr val="6b9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comu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35280" y="4724280"/>
            <a:ext cx="4176720" cy="719280"/>
          </a:xfrm>
          <a:prstGeom prst="flowChartDelay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in primo p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9640" y="2205000"/>
            <a:ext cx="4176720" cy="719280"/>
          </a:xfrm>
          <a:prstGeom prst="flowChartDelay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getti speci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4360" y="4292640"/>
            <a:ext cx="1152360" cy="936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1197000"/>
            <a:ext cx="3311640" cy="576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umentazione di superfi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88000" y="3357720"/>
            <a:ext cx="33112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 superficie x tu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76720" y="522936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approfondimento x tu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35640" y="4653000"/>
            <a:ext cx="3095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 superficie x tu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43280" y="393372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approfondimento x sce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16360" y="1989000"/>
            <a:ext cx="3311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 superficie x tu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43280" y="256536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c. di approfondimento x sce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9A3-008D-4FCE-8E4F-BD161F50C79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6870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ocumentazione Orientata al territorio – utenza:  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0" y="3047040"/>
            <a:ext cx="217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341360"/>
            <a:ext cx="86421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alorizzare il lavoro della scuola, la capacità progettuale e realizzativa degli insegnanti e del personale scolastico, le capacità e l’impegno degli student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ndere "visibile" l’azione concreta della scuola e la ricchezza della produzione scolastic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ar comprendere meglio le scelte, gli orientamenti, gli stili d’intervento della scuola e, attraverso quanto viene effettivamente realizzato, a disegnare la particolare “fisionomia” di ogni istituzione scolastic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nder conto” all’ut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 territorio degli impegni presi con la progettazione (P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5445000"/>
            <a:ext cx="1942920" cy="1224000"/>
          </a:xfrm>
          <a:prstGeom prst="cloudCallout">
            <a:avLst>
              <a:gd name="adj1" fmla="val -89050"/>
              <a:gd name="adj2" fmla="val 34564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to web?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5516640"/>
            <a:ext cx="1873080" cy="1081080"/>
          </a:xfrm>
          <a:prstGeom prst="cloudCallout">
            <a:avLst>
              <a:gd name="adj1" fmla="val -148476"/>
              <a:gd name="adj2" fmla="val 5631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C91-6718-414D-A9E1-EA97615284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56360" y="836640"/>
            <a:ext cx="2087640" cy="1152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olare la comunicazione tra i diversi gradi scolast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00" y="3047040"/>
            <a:ext cx="217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981000"/>
            <a:ext cx="208908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re l'inserimento dei nuovi doc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421000"/>
            <a:ext cx="172872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are scelte educa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2421000"/>
            <a:ext cx="2097000" cy="949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are modalità organizzative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3933720"/>
            <a:ext cx="2162160" cy="101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re il lavoro collegiale</a:t>
            </a:r>
            <a:br>
              <a:rPr sz="1600"/>
            </a:br>
            <a:br>
              <a:rPr sz="11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300640"/>
            <a:ext cx="2592360" cy="936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flettere critic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lle pratiche adot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migliorar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5302080"/>
            <a:ext cx="2592360" cy="1006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ffondere know-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utilizzare procedure e materiali sperimen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981000"/>
            <a:ext cx="2333520" cy="100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mbi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zioni nel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uola e tra  scu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3789360"/>
            <a:ext cx="2519280" cy="10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re la progettazione educativa e la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2349360"/>
            <a:ext cx="2305080" cy="1008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a66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rontare risultati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lla base dei diver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36800"/>
            <a:ext cx="7200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ocumentazione </a:t>
            </a:r>
            <a:r>
              <a:rPr b="1" i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entata agli insegnant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è utile per:</a:t>
            </a:r>
            <a:r>
              <a:rPr b="1" lang="it-IT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480" y="35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5300640"/>
            <a:ext cx="1584000" cy="792360"/>
          </a:xfrm>
          <a:prstGeom prst="leftArrow">
            <a:avLst>
              <a:gd name="adj1" fmla="val 50000"/>
              <a:gd name="adj2" fmla="val 49977"/>
            </a:avLst>
          </a:prstGeom>
          <a:solidFill>
            <a:srgbClr val="0a66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26828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270828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414972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2560" y="270828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407664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0000" y="1268280"/>
            <a:ext cx="433440" cy="360360"/>
          </a:xfrm>
          <a:custGeom>
            <a:avLst/>
            <a:gdLst>
              <a:gd name="textAreaLeft" fmla="*/ 0 w 433440"/>
              <a:gd name="textAreaRight" fmla="*/ 433800 w 433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F9D-3958-4161-99F0-346D41782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la documentazione </a:t>
            </a:r>
            <a:r>
              <a:rPr b="0" i="1" lang="it-IT" sz="4000" spc="-1" strike="noStrike">
                <a:solidFill>
                  <a:srgbClr val="000000"/>
                </a:solidFill>
                <a:latin typeface="Comic Sans MS"/>
              </a:rPr>
              <a:t>orientata agli studenti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è utile per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492280"/>
            <a:ext cx="251928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are i risultati dell'apprendimento degli studenti come nuova risorsa in altre clas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2349360"/>
            <a:ext cx="1873440" cy="1440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orizzare l'impegno degli stud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4797360"/>
            <a:ext cx="2159280" cy="122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vorire processi di metacogn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2720" y="2067480"/>
            <a:ext cx="18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50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5013360"/>
            <a:ext cx="2016360" cy="10080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E40-02A8-4930-BAC3-B1060BE92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15:42:05Z</dcterms:created>
  <dc:creator>Gloria Bernardi</dc:creator>
  <dc:description/>
  <dc:language>en-US</dc:language>
  <cp:lastModifiedBy>Massimo Faggioli</cp:lastModifiedBy>
  <cp:lastPrinted>2000-02-18T11:09:29Z</cp:lastPrinted>
  <dcterms:modified xsi:type="dcterms:W3CDTF">2006-04-26T11:14:58Z</dcterms:modified>
  <cp:revision>92</cp:revision>
  <dc:subject/>
  <dc:title>Documentare a scuola - documentare la scuola</dc:title>
</cp:coreProperties>
</file>